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F00A9-7FDA-4C06-A0DE-71A2B26E9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53795-5FC7-4E98-A010-2F04F5F0A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97303-9780-4147-BEBD-02EC90108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6F92A-228A-4013-8283-57827C36E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87032-DC6D-47E5-85A0-30F4532E4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78ADB-BA18-4A02-88C9-2D80BC811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7CC49-173F-49B0-A0F1-2A2AEB9C4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D75C0-089B-4C93-87FD-F686DEF31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F4F2D-0AEE-48F1-9479-D8D4C2148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44197-37E7-4772-9237-D7E6C17D5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277E4-85B4-46E2-86EB-9C78C78D5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E38B4-1434-4895-BD99-CC268D086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38F4-5654-47FA-BA65-5108DDEBD73E}" type="slidenum">
              <a:rPr b="0" lang="nb-N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upload.wikimedia.org/wikipedia/commons/1/1e/Kyoto_Protocol_participation_map_2005.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9/90/CO2-Temp.png"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Global Warming</a:t>
            </a:r>
            <a:endParaRPr b="0" lang="en-US" sz="4400" spc="-1" strike="noStrike">
              <a:solidFill>
                <a:srgbClr val="000000"/>
              </a:solidFill>
              <a:latin typeface="Arial"/>
            </a:endParaRPr>
          </a:p>
        </p:txBody>
      </p:sp>
      <p:pic>
        <p:nvPicPr>
          <p:cNvPr id="42" name="Picture 5" descr="global_warming_panic"/>
          <p:cNvPicPr/>
          <p:nvPr/>
        </p:nvPicPr>
        <p:blipFill>
          <a:blip r:embed="rId1"/>
          <a:stretch/>
        </p:blipFill>
        <p:spPr>
          <a:xfrm>
            <a:off x="2394000" y="1600200"/>
            <a:ext cx="435456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igher Temperatur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elting Snow, Ice and Glaci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ecause of higher temperatures on earth, the ice on the North Pole and Greenland, snow, and glaciers are melting.</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s a result, sea levels are rising</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is might lead to flooding of land where human beings and animals live</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extinction of animal species like the polar bear</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snow on mountains are important sources of drinking water to groups of people around the world. If it melts away, people and animals might have to leave the areas where they live</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7" descr="Polar Bear"/>
          <p:cNvPicPr/>
          <p:nvPr/>
        </p:nvPicPr>
        <p:blipFill>
          <a:blip r:embed="rId1"/>
          <a:stretch/>
        </p:blipFill>
        <p:spPr>
          <a:xfrm>
            <a:off x="5094360" y="1600200"/>
            <a:ext cx="31464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Precipitation (nedbør)</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igher temperatures lead to an increase in precipitatio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ater in the oceans evaporates (fordamper) and comes down as heavy precipitation elsewhe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igher temperatures also lead to soil evaporation – because of the heat the moisture or water in the soil evaporat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vy downpour of rainwater has lead to flooding in certain parts of the worl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the past years India, the USA, countries in Asia and other parts of the world have experienced severe (alvorlige) flood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Picture 6" descr="rainfall"/>
          <p:cNvPicPr/>
          <p:nvPr/>
        </p:nvPicPr>
        <p:blipFill>
          <a:blip r:embed="rId1"/>
          <a:stretch/>
        </p:blipFill>
        <p:spPr>
          <a:xfrm>
            <a:off x="4648320" y="184320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Droughts (tørk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igher temperatures also lead to soil evaporation.</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water is sucked out of the soil, then it is relocated to other areas, and the soil is left dried up</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s a result, crops fail and people and animals starve</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the recent years, Africa has experienced several severe droughts</a:t>
            </a:r>
            <a:endParaRPr b="0" lang="en-US" sz="1800" spc="-1" strike="noStrike">
              <a:solidFill>
                <a:srgbClr val="000000"/>
              </a:solidFill>
              <a:latin typeface="Arial"/>
            </a:endParaRPr>
          </a:p>
        </p:txBody>
      </p:sp>
      <p:pic>
        <p:nvPicPr>
          <p:cNvPr id="69" name="Picture 6" descr="g_drought"/>
          <p:cNvPicPr/>
          <p:nvPr/>
        </p:nvPicPr>
        <p:blipFill>
          <a:blip r:embed="rId1"/>
          <a:stretch/>
        </p:blipFill>
        <p:spPr>
          <a:xfrm>
            <a:off x="5232240" y="1785960"/>
            <a:ext cx="2870280" cy="415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rmy Weather – Typhoons, Tornadoes, Hurricanes</a:t>
            </a:r>
            <a:endParaRPr b="0" lang="en-US" sz="2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Times New Roman"/>
              </a:rPr>
              <a:t>As a result of higher temperatures, the oceans get warmer and this causes stronger storms</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Times New Roman"/>
              </a:rPr>
              <a:t>There has been an increase in the number of violent hurricanes in the past 4-5 years (e.g. Katrina in the USA)</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Times New Roman"/>
              </a:rPr>
              <a:t>Many people have lost their lives and homes in the past years because of violent hurricanes, tornados, and typhoon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6" descr="TORNADO"/>
          <p:cNvPicPr/>
          <p:nvPr/>
        </p:nvPicPr>
        <p:blipFill>
          <a:blip r:embed="rId1"/>
          <a:stretch/>
        </p:blipFill>
        <p:spPr>
          <a:xfrm>
            <a:off x="5164200" y="1600200"/>
            <a:ext cx="300492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Arial"/>
              </a:rPr>
              <a:t>The Kyoto Treaty (traktat, avtal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The Kyoto Treaty was first negotiated in Japan, Kyoto in 1997</a:t>
            </a:r>
            <a:endParaRPr b="0" lang="en-US" sz="1400" spc="-1" strike="noStrike">
              <a:solidFill>
                <a:srgbClr val="000000"/>
              </a:solidFill>
              <a:latin typeface="Arial"/>
            </a:endParaRPr>
          </a:p>
          <a:p>
            <a:pPr marL="339480" indent="-3394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The goal of the Kyoto Treaty is to reduce global warming or the emission of CO2 and other greenhouse gases that cause global warming</a:t>
            </a:r>
            <a:endParaRPr b="0" lang="en-US" sz="1400" spc="-1" strike="noStrike">
              <a:solidFill>
                <a:srgbClr val="000000"/>
              </a:solidFill>
              <a:latin typeface="Arial"/>
            </a:endParaRPr>
          </a:p>
          <a:p>
            <a:pPr marL="339480" indent="-3394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All the countries that have signed the Treaty have agreed to reduce their emissions of CO2 </a:t>
            </a:r>
            <a:endParaRPr b="0" lang="en-US" sz="1400" spc="-1" strike="noStrike">
              <a:solidFill>
                <a:srgbClr val="000000"/>
              </a:solidFill>
              <a:latin typeface="Arial"/>
            </a:endParaRPr>
          </a:p>
          <a:p>
            <a:pPr marL="339480" indent="-3394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The agreement was dealt a blow in March 2001 when President George W Bush announced that the United States would </a:t>
            </a:r>
            <a:r>
              <a:rPr b="1" lang="nb-NO" sz="1400" spc="-1" strike="noStrike" u="sng">
                <a:solidFill>
                  <a:srgbClr val="000000"/>
                </a:solidFill>
                <a:uFillTx/>
                <a:latin typeface="Times New Roman"/>
              </a:rPr>
              <a:t>never</a:t>
            </a:r>
            <a:r>
              <a:rPr b="0" lang="nb-NO" sz="1400" spc="-1" strike="noStrike" u="sng">
                <a:solidFill>
                  <a:srgbClr val="000000"/>
                </a:solidFill>
                <a:uFillTx/>
                <a:latin typeface="Times New Roman"/>
              </a:rPr>
              <a:t> </a:t>
            </a:r>
            <a:r>
              <a:rPr b="0" lang="nb-NO" sz="1400" spc="-1" strike="noStrike">
                <a:solidFill>
                  <a:srgbClr val="000000"/>
                </a:solidFill>
                <a:latin typeface="Times New Roman"/>
              </a:rPr>
              <a:t>sign it. </a:t>
            </a:r>
            <a:endParaRPr b="0" lang="en-US" sz="1400" spc="-1" strike="noStrike">
              <a:solidFill>
                <a:srgbClr val="000000"/>
              </a:solidFill>
              <a:latin typeface="Arial"/>
            </a:endParaRPr>
          </a:p>
          <a:p>
            <a:pPr marL="339480" indent="-3394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The Treaty has a system where a country might buy CO2 quotas from other countries</a:t>
            </a:r>
            <a:endParaRPr b="0" lang="en-US" sz="1400" spc="-1" strike="noStrike">
              <a:solidFill>
                <a:srgbClr val="000000"/>
              </a:solidFill>
              <a:latin typeface="Arial"/>
            </a:endParaRPr>
          </a:p>
          <a:p>
            <a:pPr marL="339480" indent="-3394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178 countries have signed the Treaty – including Norway</a:t>
            </a:r>
            <a:endParaRPr b="0" lang="en-US" sz="1400" spc="-1" strike="noStrike">
              <a:solidFill>
                <a:srgbClr val="000000"/>
              </a:solidFill>
              <a:latin typeface="Arial"/>
            </a:endParaRPr>
          </a:p>
          <a:p>
            <a:pPr marL="33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ap: Countries in green have signed the Treaty, countries in red will not sign it.</a:t>
            </a:r>
            <a:endParaRPr b="0" lang="en-US" sz="1200" spc="-1" strike="noStrike">
              <a:solidFill>
                <a:srgbClr val="000000"/>
              </a:solidFill>
              <a:latin typeface="Arial"/>
            </a:endParaRPr>
          </a:p>
        </p:txBody>
      </p:sp>
      <p:sp>
        <p:nvSpPr>
          <p:cNvPr id="7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7" descr="Image:Kyoto Protocol participation map 2005.png">
            <a:hlinkClick r:id="rId1"/>
          </p:cNvPr>
          <p:cNvPicPr/>
          <p:nvPr/>
        </p:nvPicPr>
        <p:blipFill>
          <a:blip r:embed="rId2"/>
          <a:stretch/>
        </p:blipFill>
        <p:spPr>
          <a:xfrm>
            <a:off x="4724280" y="3429000"/>
            <a:ext cx="3814920" cy="1763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By Nina Sandström Angelsen</a:t>
            </a:r>
            <a:endParaRPr b="0" lang="en-US" sz="2400" spc="-1" strike="noStrike">
              <a:solidFill>
                <a:srgbClr val="000000"/>
              </a:solidFill>
              <a:latin typeface="Arial"/>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Selbu videregående sk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English Subject Curriculum</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ulture, society and literatu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he aims of the studies are to enable pupils to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elaborate on and discuss a number of international and global challeng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Arial"/>
              </a:rPr>
              <a:t>Vocabulary</a:t>
            </a: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Global warming – global oppvarming</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limate change - klimaendringer</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tmosphere – atmosfæren (a thin layer of atmosphere of gases surrounding the earth)</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Radiation – stråling</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nfrared radiation – infrarød stråling</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Greenhouse gases – klimagasser </a:t>
            </a:r>
            <a:endParaRPr b="0" lang="en-US" sz="900" spc="-1" strike="noStrike">
              <a:solidFill>
                <a:srgbClr val="000000"/>
              </a:solidFill>
              <a:latin typeface="Arial"/>
            </a:endParaRPr>
          </a:p>
          <a:p>
            <a:pPr lvl="1" marL="743040" indent="-285840">
              <a:lnSpc>
                <a:spcPct val="8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O2 (carbon dioxide)</a:t>
            </a:r>
            <a:endParaRPr b="0" lang="en-US" sz="800" spc="-1" strike="noStrike">
              <a:solidFill>
                <a:srgbClr val="000000"/>
              </a:solidFill>
              <a:latin typeface="Arial"/>
            </a:endParaRPr>
          </a:p>
          <a:p>
            <a:pPr lvl="1" marL="743040" indent="-285840">
              <a:lnSpc>
                <a:spcPct val="8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ethane – metangass</a:t>
            </a:r>
            <a:endParaRPr b="0" lang="en-US" sz="800" spc="-1" strike="noStrike">
              <a:solidFill>
                <a:srgbClr val="000000"/>
              </a:solidFill>
              <a:latin typeface="Arial"/>
            </a:endParaRPr>
          </a:p>
          <a:p>
            <a:pPr lvl="1" marL="743040" indent="-285840">
              <a:lnSpc>
                <a:spcPct val="8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Nitrous oxide - lystgass</a:t>
            </a:r>
            <a:endParaRPr b="0" lang="en-US" sz="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o emit (gases) – å slippe u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missions of greenhouse gases – utslipp av klimagasser, klimagassutslipp</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vaporation – fordamping</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oil evaporation – fordamping av fuktighet fra jord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recipitation – nedbør (rain, snow, hail)</a:t>
            </a:r>
            <a:endParaRPr b="0" lang="en-US" sz="900" spc="-1" strike="noStrike">
              <a:solidFill>
                <a:srgbClr val="000000"/>
              </a:solidFill>
              <a:latin typeface="Arial"/>
            </a:endParaRPr>
          </a:p>
          <a:p>
            <a:pPr lvl="1" marL="743040" indent="-285840">
              <a:lnSpc>
                <a:spcPct val="8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now</a:t>
            </a:r>
            <a:endParaRPr b="0" lang="en-US" sz="800" spc="-1" strike="noStrike">
              <a:solidFill>
                <a:srgbClr val="000000"/>
              </a:solidFill>
              <a:latin typeface="Arial"/>
            </a:endParaRPr>
          </a:p>
          <a:p>
            <a:pPr lvl="1" marL="743040" indent="-285840">
              <a:lnSpc>
                <a:spcPct val="8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Rain</a:t>
            </a:r>
            <a:endParaRPr b="0" lang="en-US" sz="800" spc="-1" strike="noStrike">
              <a:solidFill>
                <a:srgbClr val="000000"/>
              </a:solidFill>
              <a:latin typeface="Arial"/>
            </a:endParaRPr>
          </a:p>
          <a:p>
            <a:pPr lvl="1" marL="743040" indent="-285840">
              <a:lnSpc>
                <a:spcPct val="8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ail</a:t>
            </a:r>
            <a:endParaRPr b="0" lang="en-US" sz="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eforestation – avskoging (the cutting down or burning of vast areas of trees to clear</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and)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evel - nivå</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ea level – havnivå (rising sea levels)</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ossil fuels – fossile brennstoffer (like gas, oil, and coal)</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rought – tørk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Hurricanes – orkaner</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ornados – tornadoer</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yphoon – tyfon</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ncrease – øke, økning</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ecrease – minke, minsking, nedgang</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o trap, trapped – å fange, fange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PCC (The Inter-Governmental Panel on Climate Change) – FNs klimapanel</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What Is Global Warming?</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lobal warming is an increase in temperatures on earth – it is becoming warmer!</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temperature on earth has increased gradually over the past 100 years, and more rapidly over the past 60-70 year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rrounding the earth is a layer of atmosphere or gas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mosphere protects life on earth by both retaining and releasing solar radi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ever, because human beings over the past 100 years have been burning more and more fossil fuels like gas, oil, and coal; the concentration of CO2 has increased and thickened the atmospher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us, less radiation is released through the atmosphere and back into spac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a result, temperatures on earth increa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Arial"/>
              </a:rPr>
              <a:t>The Basic Science of Global Warming</a:t>
            </a:r>
            <a:r>
              <a:rPr b="0" lang="nb-NO"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reenhouse Effec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ght waves from the sun (radiation) penetrate the atmosphere and heat up the earth.</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radiation is trapped inside the atmosphere - which is a good thing because it keeps the temperature of the earth relatively constant and liveable.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trapped by greenhouse gases like CO2 which are naturally a part of the atmospher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radiation is released back into space as infrared radiation</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 burning of fossil fuels over the years has increased and as a result the CO2 level has increased and there is more CO2 in the atmosphere, and because of that the thin layer of atmosphere has become thicker</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result, more of the radiation is trapped, and it becomes warmer on earth. </a:t>
            </a:r>
            <a:endParaRPr b="0" lang="en-US" sz="1200" spc="-1" strike="noStrike">
              <a:solidFill>
                <a:srgbClr val="000000"/>
              </a:solidFill>
              <a:latin typeface="Arial"/>
            </a:endParaRPr>
          </a:p>
        </p:txBody>
      </p:sp>
      <p:pic>
        <p:nvPicPr>
          <p:cNvPr id="51" name="Picture 9" descr="gheffect"/>
          <p:cNvPicPr/>
          <p:nvPr/>
        </p:nvPicPr>
        <p:blipFill>
          <a:blip r:embed="rId1"/>
          <a:stretch/>
        </p:blipFill>
        <p:spPr>
          <a:xfrm>
            <a:off x="952560" y="271944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4400" spc="-1" strike="noStrike">
              <a:solidFill>
                <a:srgbClr val="000000"/>
              </a:solidFill>
              <a:latin typeface="Arial"/>
            </a:endParaRPr>
          </a:p>
        </p:txBody>
      </p:sp>
      <p:pic>
        <p:nvPicPr>
          <p:cNvPr id="53" name="Picture 6" descr="gheffect"/>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Fossil Fuels and CO2</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2 is a greenhouse gas that exists naturally in the atmosphere, i.e. we need it to surviv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2 is in part created from burning fossil fuels like gas, oil and coal</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ast century, we use more and more oil, gas and coal to produce things that we need in everyday life. We also use more oil, gas and coal than ever before in agriculture and in connection with transport and vehicles  and travel (cars, planes, train, ships, etc.)</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 the past 100 years, the concentration of CO2 in the atmosphere and the emission of CO2 have increased drastically – especially the past 60-70 years (see graph below)</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emission and concentration of Co2 has increased, so have the earth’s temperatur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majority of today’s climate change scientists agree that this increase is largely man-made and is the result of an increase in the use of gas, oil, and coal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6" name="Picture 6" descr="co"/>
          <p:cNvPicPr/>
          <p:nvPr/>
        </p:nvPicPr>
        <p:blipFill>
          <a:blip r:embed="rId1"/>
          <a:stretch/>
        </p:blipFill>
        <p:spPr>
          <a:xfrm>
            <a:off x="5005440" y="2138400"/>
            <a:ext cx="3324240" cy="344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Increasing Levels of Temperatures and CO2</a:t>
            </a:r>
            <a:endParaRPr b="0" lang="en-US" sz="3200" spc="-1" strike="noStrike">
              <a:solidFill>
                <a:srgbClr val="000000"/>
              </a:solidFill>
              <a:latin typeface="Arial"/>
            </a:endParaRPr>
          </a:p>
        </p:txBody>
      </p:sp>
      <p:pic>
        <p:nvPicPr>
          <p:cNvPr id="58" name="Picture 10" descr="Bilde:CO2-Temp.png">
            <a:hlinkClick r:id="rId1"/>
          </p:cNvPr>
          <p:cNvPicPr/>
          <p:nvPr/>
        </p:nvPicPr>
        <p:blipFill>
          <a:blip r:embed="rId2"/>
          <a:stretch/>
        </p:blipFill>
        <p:spPr>
          <a:xfrm>
            <a:off x="762120" y="1819440"/>
            <a:ext cx="7619760" cy="40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Arial"/>
              </a:rPr>
              <a:t>Consequences of Global Warming</a:t>
            </a:r>
            <a:endParaRPr b="0" lang="en-US" sz="3600" spc="-1" strike="noStrike">
              <a:solidFill>
                <a:srgbClr val="000000"/>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ina</cp:lastModifiedBy>
  <dcterms:modified xsi:type="dcterms:W3CDTF">2009-11-30T23:20:33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